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2DB-5145-478E-8603-5A9E1E06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271-7C28-412F-B068-DF04CE6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726-76F3-4B7F-9CFA-9E185291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362-1EAF-46FE-9B6F-63AD3FB7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24F-B50F-4EB4-925C-ECD06607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AC77-5365-48C5-A6DE-25A5B5E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18B0-4871-43A2-8CE9-C4100D0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B900-957C-4594-A8EC-0A39E9E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9BFA-C2EE-4D8E-BEEA-B828AAE4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97CE-0501-4245-83FB-7F037BC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530-89BA-4B21-B012-D051B09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084-0BBF-46F0-8D1C-AF735861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A049-F614-4854-B806-E0C50DF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F84-96DC-426A-84E6-B28DFC3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E9F9-BDC3-4B42-9C42-A8360C8F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DBD-9544-4F8F-9BCA-3E342A5C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33C-2CF3-4E0D-900B-D2D2F98F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567-D0AA-4435-B9C6-2F27C78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4DC-C785-4316-8C84-BCDCD3C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E15-22A2-4409-9D9E-56D913B8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E86-4B37-4143-A5F0-34EFD5A4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27C-D74B-43C4-9818-461FBAF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D48-3F6F-448D-9E59-3904C83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C99-FEA4-4E4F-A61E-161383F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F27E-5087-4717-A9F9-2ED189B85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74F-1266-48BC-98A1-574C82863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355760"/>
            <a:ext cx="716292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Quiz About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History</a:t>
            </a: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Robin Au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12/02/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)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)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1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What was the south’s main export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Tobac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cot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c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42670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3"/>
          <a:stretch/>
        </p:blipFill>
        <p:spPr>
          <a:xfrm>
            <a:off x="304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3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3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Tahoma"/>
              </a:rPr>
              <a:t>Question 2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apital of the confederate states of America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Montgom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ichm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3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Montgom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ichm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3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apital of the United States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4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1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3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3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3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ickname for Northern Soldiers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Yank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e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Country Bo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Red N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1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13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13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1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5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ickname for southern boys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Yank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e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Country Bo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Red N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13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3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71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6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What color represented the South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G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Blue-Bl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3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13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13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7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7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What color represented the North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G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blue-bl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1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3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1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1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Bonus Question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How did the North try to stop Southern trade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Atta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bu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Boyco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block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13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3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13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71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6:14:53Z</dcterms:created>
  <dc:creator>clay</dc:creator>
  <dc:description/>
  <dc:language>en-US</dc:language>
  <cp:lastModifiedBy> </cp:lastModifiedBy>
  <dcterms:modified xsi:type="dcterms:W3CDTF">2010-12-02T19:42:17Z</dcterms:modified>
  <cp:revision>4</cp:revision>
  <dc:subject/>
  <dc:title>Quiz About [Your topic] </dc:title>
</cp:coreProperties>
</file>